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519-A80A-4897-8230-43516158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BED-D6B7-46AD-B178-C16FD826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E37-6EEB-4DFB-8E2F-0208469B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CEC-0118-494E-AC19-ADE3030A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4D2C-9004-4DFE-9EB7-9842F120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8E23-A0AB-41B6-A224-17317E8B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4FCB-6231-4E16-A2A1-8B110820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D83B-1AAD-40BE-BC52-D50B55B2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DCFB-94CF-43EE-ACE8-CA699D4D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5B4D-3421-4CA5-BF1E-74472CC2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22D8-2691-4C03-B47B-F6B2189C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D01-0295-4C8D-8622-BEBE4DDE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79BC-203B-4239-A2DD-9DD57B8A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8343-AE80-4D4C-A5FA-F2B426D3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9561-9232-4774-A682-9A321EF8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3B68-8798-4339-9963-3B37407D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78F8-1E94-45EE-8CB0-BAA34996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75B-3520-4C6C-8731-A015B6D7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EC6-E57B-4E9D-9C49-92AC66B5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CDB-8582-4678-A00A-9FA5F15B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064-0AE8-411D-A794-EDB768FC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2B3-486B-4528-9A7F-3F3FAF5C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9E2-7FCF-440F-B1F9-E7C6CF89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E51-32E2-4DCA-83AA-FC314D4E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B09A-C9F0-46A1-9A76-6212DBEC849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04B8-AEB4-4D2E-893F-3CAC50F12E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6633"/>
                </a:solidFill>
                <a:latin typeface="Garamond"/>
              </a:rPr>
              <a:t>DOA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bt:Ow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endor:sel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redit:p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ent:coer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stomer:refu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6633"/>
                </a:solidFill>
                <a:latin typeface="Garamond"/>
              </a:rPr>
              <a:t>Answer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Vendor:sel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Freewrit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you will be stranded on a deserted island in the middle of the ocean for ten years. You will be allowed to bring one each of the following: book, movie, cd, food, drink, piece of clothing, and one miscellaneous item. List the one item you would bring in each category, and explain why you chos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Vocabulary practic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nd a synonym for 5 of the word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KAM-Ch. 22 and 2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urnal Responses-choose 3 to do, one paragraph ea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Ch. 24 and 25 for ho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Great Gatsb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ish scrap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journal respon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ch. 7 for ho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3:14:08Z</dcterms:created>
  <dc:creator>rebecca</dc:creator>
  <dc:description/>
  <dc:language>en-US</dc:language>
  <cp:lastModifiedBy>rebecca</cp:lastModifiedBy>
  <dcterms:modified xsi:type="dcterms:W3CDTF">2009-03-10T19:53:24Z</dcterms:modified>
  <cp:revision>4</cp:revision>
  <dc:subject/>
  <dc:title>DOA</dc:title>
</cp:coreProperties>
</file>